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96C5-4BB3-42A2-9446-644227F5E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C05C-341D-4428-BB3B-420F11159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84A0-1E51-4CA1-A95B-154F8B5E9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0692-DDE8-4DD0-9E85-30DCF8124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BE84-0D85-4F1C-A20B-A3B5194BD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02B5-36DA-43BA-9AAA-86A31B1A0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1C67-9B5B-49E7-A5F4-FBD2EDD4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AF39-A0FD-4743-AA40-03352DF5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2A7C-1F03-4A54-9FEF-F19F5D46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7E1D-9C28-4C7D-998D-B90C32ED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1772-30F9-48E6-B526-38AC213C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13B-27A5-435A-9AE9-A38AA085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ADB4-CF09-488F-8A65-D11570AD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5859-624C-42DA-B4DE-9C7554C3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8120" y="609120"/>
            <a:ext cx="5410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907-1378-4920-8E34-91586D76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0721-52A3-43C2-A427-9B5C7B47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C537-A0C5-4379-92B5-E7C151DD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9232-042A-4CDE-947E-56E3AD30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F3EB-A9E1-4EBA-AA60-E3780B009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lang="en-US" sz="4800" spc="-1" strike="noStrike">
                <a:solidFill>
                  <a:srgbClr val="c00000"/>
                </a:solidFill>
                <a:latin typeface="Calibri"/>
                <a:ea typeface="Calibri"/>
              </a:rPr>
              <a:t>REPUBLIKA SRP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lang="en-US" sz="4800" spc="-1" strike="noStrike">
                <a:solidFill>
                  <a:srgbClr val="c00000"/>
                </a:solidFill>
                <a:latin typeface="Calibri"/>
                <a:ea typeface="Calibri"/>
              </a:rPr>
              <a:t>FLOODS RECOVE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admila Mihi</a:t>
            </a:r>
            <a:r>
              <a:rPr b="1" lang="sr-Latn-BA" sz="2000" spc="-1" strike="noStrike">
                <a:solidFill>
                  <a:srgbClr val="000000"/>
                </a:solidFill>
                <a:latin typeface="Calibri"/>
                <a:ea typeface="Calibri"/>
              </a:rPr>
              <a:t>ć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, Assistant Min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inistry of Fin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publika Srp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arajevo, October 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87280" y="764640"/>
            <a:ext cx="56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he Register of the Dam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10920" y="1989000"/>
            <a:ext cx="806292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Register of Damage is a databa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hich includes the data on the individual damages to residential facilities, business facilities, energy and agriculture facilities; equipment, machinery crops and plants; livestock; transport infrastructure; water supply and sanitation facilities; water protection and irrigation facilities and public institution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data from the Register is  public and published on the Official web 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ww.vladars.net  and www.Obnovasrpsk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2468520" y="1341360"/>
            <a:ext cx="8102520" cy="85345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oucher Payment Instrument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„Обнова Српске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072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ue up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5000,00 B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procurement of goods for building and reconstruction, furniture, utility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dline: 01.07.2015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66 entrepreneurs signed contract with F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d0d0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Calibri"/>
              </a:rPr>
              <a:t>A total of </a:t>
            </a:r>
            <a:r>
              <a:rPr b="1" lang="sr-CS" sz="2200" spc="-1" strike="noStrike">
                <a:solidFill>
                  <a:srgbClr val="0d0d0d"/>
                </a:solidFill>
                <a:latin typeface="Calibri"/>
              </a:rPr>
              <a:t>18.7</a:t>
            </a:r>
            <a:r>
              <a:rPr b="1" lang="en-US" sz="2200" spc="-1" strike="noStrike">
                <a:solidFill>
                  <a:srgbClr val="0d0d0d"/>
                </a:solidFill>
                <a:latin typeface="Calibri"/>
              </a:rPr>
              <a:t>14</a:t>
            </a:r>
            <a:r>
              <a:rPr b="1" lang="sr-CS" sz="2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ayment card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s been distributed until </a:t>
            </a:r>
            <a:r>
              <a:rPr b="0" lang="en-US" sz="2200" spc="-1" strike="noStrike">
                <a:solidFill>
                  <a:srgbClr val="0d0d0d"/>
                </a:solidFill>
                <a:latin typeface="Calibri"/>
              </a:rPr>
              <a:t>09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2014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19.279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ouseholds registered for payment card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87280" y="404280"/>
            <a:ext cx="5553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Proposed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ojects for recovery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5280" y="1628280"/>
            <a:ext cx="8569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posals from Republika Srpska Government are delivered in accordance with recommendations from RNA-PD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alibri"/>
                <a:ea typeface="Calibri"/>
              </a:rPr>
              <a:t>Estimated value </a:t>
            </a:r>
            <a:r>
              <a:rPr b="1" lang="sr-CS" sz="2400" spc="-1" strike="noStrike">
                <a:solidFill>
                  <a:srgbClr val="0d0d0d"/>
                </a:solidFill>
                <a:latin typeface="Calibri"/>
                <a:ea typeface="Calibri"/>
              </a:rPr>
              <a:t>705</a:t>
            </a:r>
            <a:r>
              <a:rPr b="1" lang="en-US" sz="2400" spc="-1" strike="noStrike">
                <a:solidFill>
                  <a:srgbClr val="0d0d0d"/>
                </a:solidFill>
                <a:latin typeface="Calibri"/>
                <a:ea typeface="Calibri"/>
              </a:rPr>
              <a:t>.000.000 B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gri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jects for: repairing damages to agricultural and livestock production, linking primary production and manufacturing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procurement equipment for hail protection, development of forecasting and reporting servic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– 52.500.000,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27280" y="620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oposed projects for recover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3640" y="1916280"/>
            <a:ext cx="8569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du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construction and recovery of primary and secondary schools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4.290.472,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ealth se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curement of sanitary vehicle for hospitals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700.000,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ublic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public utilities, providing conditions for efficient delivering public servic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6.481.770,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oposed projects for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280" y="1811160"/>
            <a:ext cx="849636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use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residential buildings 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472.000,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power distribution network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17.601.420,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ransport and Commun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railway Modrica-Sama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rehabilitation postal network, rehabilitation roads and procurement equipment and transport vehicle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 167.020.000,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oposed projects for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1915920"/>
            <a:ext cx="77724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Livelihoods and employ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and recovery of production capacities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damage to the tourism,  support to employing in floods area, training for unemployed persons, employment disabled persons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-455.796.637,00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hart 4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530208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iori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of private and public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rt to the vulnerable social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griculture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of public services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creasing future emergency ris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sing principl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ild Back Better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19810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Thank you for atten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Radmila Mihi</a:t>
            </a:r>
            <a:r>
              <a:rPr b="0" lang="sr-Latn-BA" sz="3200" spc="-1" strike="noStrike">
                <a:solidFill>
                  <a:srgbClr val="0d0d0d"/>
                </a:solidFill>
                <a:latin typeface="Calibri"/>
              </a:rPr>
              <a:t>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Ministry of Fin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Republika Srp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9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203640" y="1197000"/>
            <a:ext cx="28861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sequences of floods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4000" y="1699920"/>
            <a:ext cx="784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mages and Losses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1.893.830.000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M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ritory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 – 40% of RS teritory, 58% of the total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tality – due to floods 19 persons lost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placed persons (55.000 peo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0000" y="60912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rough the lens of a ca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4000" y="1699920"/>
            <a:ext cx="78483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C:\Users\rmihic\Desktop\6df35_poplave-republika-srpska-banja-luka-tviter-1400337757-498631.jpg"/>
          <p:cNvPicPr/>
          <p:nvPr/>
        </p:nvPicPr>
        <p:blipFill>
          <a:blip r:embed="rId1"/>
          <a:stretch/>
        </p:blipFill>
        <p:spPr>
          <a:xfrm>
            <a:off x="1692360" y="1844640"/>
            <a:ext cx="3254400" cy="1908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sobijeljina.org/galerija/galerija/gal_38_slika_1618_velika.jpg"/>
          <p:cNvPicPr/>
          <p:nvPr/>
        </p:nvPicPr>
        <p:blipFill>
          <a:blip r:embed="rId2"/>
          <a:stretch/>
        </p:blipFill>
        <p:spPr>
          <a:xfrm>
            <a:off x="4946760" y="1844640"/>
            <a:ext cx="3392280" cy="1908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www.sobijeljina.org/galerija/galerija/gal_38_slika_1658_velika.jpg"/>
          <p:cNvPicPr/>
          <p:nvPr/>
        </p:nvPicPr>
        <p:blipFill>
          <a:blip r:embed="rId3"/>
          <a:stretch/>
        </p:blipFill>
        <p:spPr>
          <a:xfrm>
            <a:off x="1692360" y="3753000"/>
            <a:ext cx="3254400" cy="212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http://vijesti365.com/wp-content/uploads/2014/05/poplave-modrica-dnevne.jpg"/>
          <p:cNvPicPr/>
          <p:nvPr/>
        </p:nvPicPr>
        <p:blipFill>
          <a:blip r:embed="rId4"/>
          <a:stretch/>
        </p:blipFill>
        <p:spPr>
          <a:xfrm>
            <a:off x="4946760" y="3759120"/>
            <a:ext cx="339228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00000" y="60912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rough the lens of a ca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000" y="1699920"/>
            <a:ext cx="78483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http://static.mondo.rs/Picture/346220/jpeg/doboj-4.jpg"/>
          <p:cNvPicPr/>
          <p:nvPr/>
        </p:nvPicPr>
        <p:blipFill>
          <a:blip r:embed="rId1"/>
          <a:stretch/>
        </p:blipFill>
        <p:spPr>
          <a:xfrm>
            <a:off x="1619280" y="1844640"/>
            <a:ext cx="3394080" cy="190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ttp://images3.kurir-info.rs/slika-900x608/poplave-bosna-doboj-foto-beta-1401108056-504851.jpg"/>
          <p:cNvPicPr/>
          <p:nvPr/>
        </p:nvPicPr>
        <p:blipFill>
          <a:blip r:embed="rId2"/>
          <a:stretch/>
        </p:blipFill>
        <p:spPr>
          <a:xfrm>
            <a:off x="5013360" y="1844640"/>
            <a:ext cx="3213000" cy="1908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://www.banjaluka.com/wp-content/uploads/2014/05/Banjaluka_nakon_poplava_2.jpg"/>
          <p:cNvPicPr/>
          <p:nvPr/>
        </p:nvPicPr>
        <p:blipFill>
          <a:blip r:embed="rId3"/>
          <a:stretch/>
        </p:blipFill>
        <p:spPr>
          <a:xfrm>
            <a:off x="1619280" y="3792600"/>
            <a:ext cx="3394080" cy="1906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http://www.novosti.rs/upload/images/2014/04/25n/rs%20poplave.jpg"/>
          <p:cNvPicPr/>
          <p:nvPr/>
        </p:nvPicPr>
        <p:blipFill>
          <a:blip r:embed="rId4"/>
          <a:stretch/>
        </p:blipFill>
        <p:spPr>
          <a:xfrm>
            <a:off x="5013360" y="3792600"/>
            <a:ext cx="321300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85680" y="609120"/>
            <a:ext cx="60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ow RS reacted to mitigate the effects caused by floods</a:t>
            </a:r>
            <a:r>
              <a:rPr b="1" lang="sr-BA" sz="3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4360" y="184428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vernment and municipalities started with Damage Census and participated in 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viding funds for the reconstruction of the RS: pay-pal account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B and IMF negotiations, participation at Donor conference, preparation of new legisl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que Register of Dam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Solidarity Fund has been establish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03640" y="404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gis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3640" y="1483920"/>
            <a:ext cx="856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Assembly of Republika Srpska according urgent procedure adopted   Law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aw on Solidarity Fund for the Republic of Srpska’s Recove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aw on Special Contribution to Solid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aw on Fees for Using Natural Resources for the Purpose of Electricity Gen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aw on the Amendments to the Law on the Taxes on the Us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session of Assets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aw Amending the Law on Special Taxes of the Republic of Srp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aw amending the Law on special procedures for tax debt sett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aw on the Amendments to the Law on Property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87640" y="620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Legislation Effe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989000"/>
            <a:ext cx="8424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tipulated the allocation of the 5, 000 BAM payment cards for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construction of residential facilit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ees for using hydroelectric facilities have been increased from 0,005 BAM to 0,010 BAM, as well as fees for the use of non-renewable natural resources from 0,003 BAM to 0,006 B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amount of the taxes on motor vehicles is increased i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ange of 25% to 50%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tax on the possession of firearms and ammunition for personal safety has been increased by 50% compared to the previous tax am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87640" y="620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Legislation Effe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5280" y="1989000"/>
            <a:ext cx="8424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taxpayers affected by the floods shall be exempted from paying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pecial tax for 201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scheduling has been introduced for the taxpayers who suffe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irect material damage during the floods/ possibility to reschedule  taxes            due for payment by 30 June 2014 with one-year interest-free grace period and without the need for submitting the collatera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Has been allowed to the units of local government to stipulate tax exemption on property for a specified period for all those taxpayers who suffered material damages caused by the floods in May 2014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43320" y="620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olidarity Fu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25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900000" y="1969920"/>
            <a:ext cx="3610080" cy="4627800"/>
          </a:xfrm>
          <a:custGeom>
            <a:avLst/>
            <a:gdLst>
              <a:gd name="textAreaLeft" fmla="*/ 176040 w 3610080"/>
              <a:gd name="textAreaRight" fmla="*/ 3434040 w 3610080"/>
              <a:gd name="textAreaTop" fmla="*/ 176040 h 4627800"/>
              <a:gd name="textAreaBottom" fmla="*/ 4451760 h 4627800"/>
            </a:gdLst>
            <a:ahLst/>
            <a:rect l="textAreaLeft" t="textAreaTop" r="textAreaRight" b="textAreaBottom"/>
            <a:pathLst>
              <a:path w="21600" h="27689">
                <a:moveTo>
                  <a:pt x="3600" y="0"/>
                </a:moveTo>
                <a:arcTo wR="3600" hR="3600" stAng="16200000" swAng="-5400000"/>
                <a:lnTo>
                  <a:pt x="0" y="24089"/>
                </a:lnTo>
                <a:arcTo wR="3600" hR="3600" stAng="10800000" swAng="-5400000"/>
                <a:lnTo>
                  <a:pt x="18000" y="276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e sources of the Fu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pecial contribution to solid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omestic and foreign dona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omestic and foreign assi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oans of the Republic of Srps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oans of the units of local govern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ax on the use, possession of asset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Fees for the use of natural resources for the electricity gene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Means acquired through the sales of the property gained by committing a criminal off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ounded Rectangle 10"/>
          <p:cNvSpPr/>
          <p:nvPr/>
        </p:nvSpPr>
        <p:spPr>
          <a:xfrm>
            <a:off x="5219640" y="1969920"/>
            <a:ext cx="3435480" cy="4627800"/>
          </a:xfrm>
          <a:custGeom>
            <a:avLst/>
            <a:gdLst>
              <a:gd name="textAreaLeft" fmla="*/ 167400 w 3435480"/>
              <a:gd name="textAreaRight" fmla="*/ 3268080 w 3435480"/>
              <a:gd name="textAreaTop" fmla="*/ 167400 h 4627800"/>
              <a:gd name="textAreaBottom" fmla="*/ 4460400 h 4627800"/>
            </a:gdLst>
            <a:ahLst/>
            <a:rect l="textAreaLeft" t="textAreaTop" r="textAreaRight" b="textAreaBottom"/>
            <a:pathLst>
              <a:path w="21600" h="29096">
                <a:moveTo>
                  <a:pt x="3600" y="0"/>
                </a:moveTo>
                <a:arcTo wR="3600" hR="3600" stAng="16200000" swAng="-5400000"/>
                <a:lnTo>
                  <a:pt x="0" y="25496"/>
                </a:lnTo>
                <a:arcTo wR="3600" hR="3600" stAng="10800000" swAng="-5400000"/>
                <a:lnTo>
                  <a:pt x="18000" y="290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Fund revenue  will be used for recovery  from the  damages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a)Residential facil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a) Business fac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b) Energy fac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) Agricultural structures, equipment, machinery, crops and pl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) Livest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) Transpor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f) Water supply and sanitation facil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g) Water protection and irrigation facilities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h) Public institution build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ight Arrow 11"/>
          <p:cNvSpPr/>
          <p:nvPr/>
        </p:nvSpPr>
        <p:spPr>
          <a:xfrm>
            <a:off x="4568760" y="4057560"/>
            <a:ext cx="579600" cy="403200"/>
          </a:xfrm>
          <a:prstGeom prst="rightArrow">
            <a:avLst>
              <a:gd name="adj1" fmla="val 50000"/>
              <a:gd name="adj2" fmla="val 50166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07:13:24Z</dcterms:created>
  <dc:creator>olukic</dc:creator>
  <dc:description/>
  <dc:language>en-US</dc:language>
  <cp:lastModifiedBy>operater</cp:lastModifiedBy>
  <cp:lastPrinted>2014-10-09T12:50:07Z</cp:lastPrinted>
  <dcterms:modified xsi:type="dcterms:W3CDTF">2014-10-14T07:31:36Z</dcterms:modified>
  <cp:revision>261</cp:revision>
  <dc:subject/>
  <dc:title>ИЗГРАДЊА ДРУМСКЕ ОБИЛАЗНИЦЕ ОКО ГРАДА ТРЕБИЊА</dc:title>
</cp:coreProperties>
</file>